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7497-CC56-4F27-9647-306FCBBAD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E82E-1394-489D-8950-5C58D7AE3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03521B-48DB-4473-B63B-0658CDCBE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E64F5B-6069-4CBD-89A7-26B6DCC89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E7BA45-2042-482F-A5AA-DA848C8BB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778E8D-58D9-4981-ADB6-0C7E724C2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FAF529-6F5E-4C02-AA2F-4F6FAA18B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863D89-E1F9-4FA7-9AE3-17DB75E01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A6135B-9205-44F7-8773-A905E3870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F686E2-42A4-444F-A41D-BAAD41CBD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41D618-F810-4898-A971-4C7740EEE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FF21D0-48A3-4D10-A235-5A9C1315E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0126-A3CA-46D7-92BF-B9B297C31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EE5BFB-4985-448A-860C-364530A73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9496AA-71CF-44A1-AE0C-986578E0C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341BF0-8D71-422A-B559-4E5EDCFC4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216EA7-A832-4E93-B02C-A656DF33E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2417D6-E5F8-44A0-9E6A-355C90BCD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901491-E3A9-404D-9D65-4800B108C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B37A05-222B-4D3C-A93D-A9D0E8087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F98842-162F-4050-9FCE-F35046F12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F4A947-1BA1-450E-9DCF-EAB47D448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2BC8BA-3C94-4C1A-A684-1A9A0BE96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1383-F1CA-44B1-8015-470C77289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82F0D2-A834-4033-A2A1-515C3F37D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55507F-1F83-4B0C-B859-988AAF539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5C91A0-9558-4C0E-877C-15540E136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A2B2E2-0B1E-49D9-BD66-2AAFEA68A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9DC4D2-638F-4278-BC81-BD8663B90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D08D35-4FCB-498C-B3ED-317BA7487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BA92F4-4855-4A90-8123-70ADEB9E7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A4EF89-46B8-45C7-BCAF-465F6438C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160C92-7E2F-4B8C-AFD5-4939896A0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39111B-F08D-4B6E-8155-9662ECF4F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0646D-4EBE-49DD-A5A6-D1824FB77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DE0381-81D2-49F9-99C6-CBDD9B213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3042C8-70B9-4A49-B112-96844F0D9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5354A8-3D8B-4736-952F-E8372F3A5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DE8FF4-B0BB-4138-BAB8-634EC6A49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27975E-5AAA-4767-8C22-90DA24001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7CFEE5-EECF-43B8-81DD-231EC19D7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E6CD2E-700A-4715-B9A2-329E853D1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9F6B5A-ABC3-4EA6-9276-17505B22A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C2555C-26BB-492D-AEC1-C9625D527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113735-4A86-4354-8421-C4C20B1C3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C5FDA-A5D4-4558-A303-2DD62C11B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67C0E7-3C32-499E-B6CD-5A806AC9C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229BD7-A313-4429-B266-95320641C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054149-F43D-4CD4-BBFB-E46A2D22E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873488-E376-4A2E-B4E2-FB74B0AEF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1877AD-565A-456A-86D5-C89DE952F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C80BE-3FE0-4252-898C-33B8B95AE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A36DA-91B1-457B-A2E3-3FFED641E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7B8F5-B71D-4C0B-BA7B-BE23BE807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2D3E0-4B9C-4679-9006-C3D6B4703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638E7-8F02-4926-BB09-AD53676EE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D833-000F-4BC0-A5DA-5ED729E73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667AA-4EBA-4380-BF80-56ACFAA7F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AA813-3A70-4273-947B-3598C3B33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AF6FD-7263-45AB-BFC1-530C09B51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BA87E-6128-46F5-98A0-9A65C443B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72823-C585-4116-9BAD-5B31428D1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80FBFF-69A6-47F5-8209-6DBAB792A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483FA5-AA4B-4978-BA1D-81F6EDD8B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7BA89E-600F-488B-BFC5-C40F94B7B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7257F1-2185-47CA-A633-27C6C6973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D8BB50-F566-4993-97B9-AE6F47CC3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E730-28CD-4889-A1C3-EACBA90BE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DCF4BF-862D-46EC-B212-2BDAFEB89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CFA8B2-0B12-4AB2-BC86-EF884FFE7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3D5173-2404-4138-B024-28C88DFF4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1369B4-A09E-4E9B-BB41-F2FFA8D9D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15C4C6-EEC1-4B8E-861D-B6D334E4A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439DC2-2433-45E4-9E19-121FE2F58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40C19D-8D17-4E48-909D-05BDE0B23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7CEBFA-906E-488C-BE35-6781674C2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8E2549-E685-4860-961C-29936C5CA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CB86F8-F2F3-4FBC-BD46-029C19E03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C582-4A10-4D37-AC97-905384586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BF54E5-983A-4DFF-AB76-1A096C43D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A8E88F-7A97-4E7E-91F5-22AAA7496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EF6A2A-29C8-43B2-82B3-D6CCC4B86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05120C-39E1-4B0C-9C9A-14CEC87FE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025D36-8914-4DAA-AC7A-587F1C42A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5AD578-4668-450A-9742-773328CE8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50EAC0-0A3D-4415-B9E4-DC58CB9EB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7EE45A-DABD-488C-BD55-E7D4FB450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FF2C2F-3329-4515-AE2F-0282D9B71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FAFDC0-DA34-40BB-A1F3-06BC17328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0873-9FC7-46F3-9B7A-40149A661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83C48C-AD87-41C8-801B-BB6867ECB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C5126B-2DF9-44CB-B53E-FCB478D15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04CEA4-910C-41F9-AA7E-E64BBF5B7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986C8B-D443-42B4-8DC2-F8E349F9E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1F10D3-36C9-4F3E-B79B-E8173EF3A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9A210D-CCCB-4BDE-99A3-B11CFAADC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316B0C-8B0F-4F3D-B186-2EE5CD276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6C298C-D646-487A-9F3F-471B84246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B25315-2A20-435D-8905-F9A09D1B4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CA9D20-1CEF-4248-8F75-11B7DFA1C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13BE-3BA3-47B6-9D54-B7E31A3FC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FDA39B-B06E-4DE1-ADB7-541AE15D4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075064-279A-466D-A9D8-36B8B2D13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B79861-F835-422E-A028-DDCDE6695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1D47FC-4F2C-4019-B327-891278C48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B3F0C9-556B-464B-8D42-33AB41C3B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1D8920-2B17-4F5D-BF6B-C6850B580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582179-9B96-45D7-B8C9-2432CFD10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FAC124-14BB-4DAA-B2F5-A4FBF3EC3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2FDD31-C458-472D-B12F-35D695AF6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DF4275-BAFD-4677-ADEA-4A13EC589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9555-9038-42B0-8F3B-7E5DFF2B8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192D31-F485-4CA5-9D29-949693D4A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20C34E-F9FE-4170-AE6C-C87B4BD3D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5DFFE5-BA7B-4650-ABA5-8C5C5462D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0D3E1B-5DF8-4BD6-9BF4-853B38C08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55E42F-A7D4-4469-AC42-FCF277F82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2B8B67-96BF-4D7C-BDED-E05471E24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602C7D-33D2-495B-929C-DCB4BFEE4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9ECEEB-3654-41D9-9BEB-7DC1A3E7A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F6FE91-5069-4BC0-9DBF-82077ED7C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9B74B4-94D1-4750-A648-EAF4F4969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DC26-B6D0-4138-ACCD-9844DE679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6F6558-3C57-4A70-9BF4-D5CA74B9B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78921C-C63E-497C-B525-D071793DA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158B50-B2EF-4E56-8655-BE73FA783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9BD896-59D2-478D-9D5E-6E833EA18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ABFBFD-B2EF-4AED-81BB-C47291D83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30C2DF-7C7B-4E81-AD53-7B32CDA36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C3D7AD-66FF-480C-A653-284B57F2A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C82AAD-A35F-4964-AE6D-669411F8F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87486E-D040-416B-B68A-A02857AD3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DB46F7-2084-4435-9D81-010AABBE4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656E-99B6-4D79-9E16-0D079F850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651D57-F12E-476C-94AF-3046D7C19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E14E93-6283-4DB8-AED8-F773DB319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74C174-BD0D-42A8-AC68-BD04746F6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161642-4474-4593-86EE-8949AC67F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E836AE-2C1C-4F2D-81CA-9C3CCEC54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D88915-B8E4-4C1A-9E45-76D1CBCCA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75154C-A353-4752-98EC-A872248E4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70D1FA-B6A5-47EA-AB63-473C7079D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4F6BB0-2607-4C6E-8EE2-F56B03A8A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35D6BB-96BC-4E13-8A11-16D3C2F29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FCEB3-53EC-4739-98FB-7F3C75D3FB4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9DF5C-B73A-4DA2-9251-01DA28832FF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1716C-D992-4B0C-B74B-59BF6BBC4D50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CE57B-9A49-4124-81C3-E3F888F15F6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E37A5-95B6-4119-A406-921F640A9414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1C22D-D02E-4AEF-AFAD-112CB3998162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3A73F-8D4C-41B7-A00B-2E7BD802A8F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0D716-3A07-4232-A0F5-570354715A1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E0E5D-FDA2-4578-B41A-D9C82B9547B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5E73E-825C-4861-8B9F-74915F35416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E8AB4-4D53-4ABA-8F16-9F220EC905D0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CA8A3-73CD-4402-8E42-C6475D0D0BF5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243 Hrad prepevný je Bo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Čo viac možno mať?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Čo môžu nám vziať?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Nech kto, čo chce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 má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nič to neznamená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Boh rados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ť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 ve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nú chystá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Hrad prepevný je Boh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áš Pán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a záštita vždy istá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s ním smieme čeliť nástrahá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čo diabol verným chystá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Ten náš nepriateľ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by nás zničiť chcel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len úskok, zvod, kla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namieril proti ná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niet mu v svete rovného.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Moc naša vždy len slabá j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sme ľahko premožení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V kom nájdeme zdroj nádej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kto prehru v triumf zmení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Kto to môže by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čo vie zachrániť?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Len Syn Boží sá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jediný Boh a Pán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nakoniec zví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ť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azí.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A hoc aj svet zla plný j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čo hrozí nám zániko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Pán mocne za nás bojuj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niet spásy v ino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 niko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Hoc plán zákerný má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nepriateľ zlý,</a:t>
            </a:r>
            <a:br>
              <a:rPr sz="4800"/>
            </a:br>
            <a:r>
              <a:rPr b="1" lang="sk-SK" sz="4700" spc="-1" strike="noStrike">
                <a:solidFill>
                  <a:srgbClr val="ffffff"/>
                </a:solidFill>
                <a:latin typeface="Arial"/>
                <a:ea typeface="Arial"/>
              </a:rPr>
              <a:t>vždy ho odrazí a slovom </a:t>
            </a:r>
            <a:r>
              <a:rPr b="1" lang="sk-SK" sz="47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sk-SK" sz="4700" spc="-1" strike="noStrike">
                <a:solidFill>
                  <a:srgbClr val="ffffff"/>
                </a:solidFill>
                <a:latin typeface="Arial"/>
                <a:ea typeface="Arial"/>
              </a:rPr>
              <a:t>orazí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Boh, nás Pán všemohúci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Zla odpor už nič nezmôž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pred mocou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jeho S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ov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a zvody sveta premôž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len p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avda Ježišov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9-03T16:49:36Z</dcterms:modified>
  <cp:revision>23</cp:revision>
  <dc:subject/>
  <dc:title>Je veľký náš Pán, on slávy je Kráľ Nech do všetkých strán  spev vrúcnych znie chvál.</dc:title>
</cp:coreProperties>
</file>